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D5EE-DC34-4F52-A816-D9762E2904E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AB8-6472-4582-AD74-4AE2D3FC759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AD2-5D5C-47F4-9BE6-F81DB33E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8B9-4667-4B22-9F0D-FE106DD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17C-10B6-44EE-BB6A-52536B44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894-6D77-4503-B68C-C61F744B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DB2E-CF2E-4C97-94B1-6ED01128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12B-5C63-4DAC-9620-C465DB8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7202-E472-4BCA-81A4-C06BFE9B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1B8C-E027-4898-945D-6311EE4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4E59-0AF8-4352-B151-F7DB8F2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9F5-C816-45E0-84DC-D69D69D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A867-8657-4556-8163-CF65F4B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5A9-E660-4E40-AE21-D9EEAE65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F21-8B88-4B90-8736-EED0171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4F5-C930-45F5-9D12-34D3F35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59EA-A562-4447-AFDC-C85BD8F9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93B-CD4A-4310-8238-473A3521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EAE-E1EF-4779-859B-77651A42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AFB-3109-41F2-85CD-0EB534C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6E1-FDC2-40AA-A167-AD41808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31A-9B4B-4BD4-A300-54D502A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1B6-8067-4FAC-8C31-52C6273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849-5CEF-4FA0-9EEE-F54AF46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4B1-6D9B-4532-9272-0EE931E9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DB0-D9CA-42DA-B15A-0116680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D928-1490-4C38-88EA-16BD3BDC1EC0}" type="slidenum"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98E-E9B1-4137-A0C0-22615D552614}" type="slidenum"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PROMEGA\Desktop\LCACTXO82CACU5X14CAAYE9Y1CAQAS0W5CARQGXAWCAE252L8CA6NPL4ZCA7PPUOPCABGVT0ECAI2P3LICA4RJD31CA56JTNOCAZYHXLTCA8D661OCAFWA8ZCCALLSGS4CA9V764ICAN2RDAWCA1514I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4 Dikdörtgen" descr=""/>
          <p:cNvPicPr/>
          <p:nvPr/>
        </p:nvPicPr>
        <p:blipFill>
          <a:blip r:embed="rId3"/>
          <a:stretch/>
        </p:blipFill>
        <p:spPr>
          <a:xfrm>
            <a:off x="3213000" y="2743200"/>
            <a:ext cx="271152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octor_c_0"/>
          <p:cNvPicPr/>
          <p:nvPr/>
        </p:nvPicPr>
        <p:blipFill>
          <a:blip r:embed="rId1"/>
          <a:stretch/>
        </p:blipFill>
        <p:spPr>
          <a:xfrm>
            <a:off x="1116000" y="2205000"/>
            <a:ext cx="260676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11640" y="549360"/>
            <a:ext cx="3095640" cy="2089080"/>
          </a:xfrm>
          <a:prstGeom prst="cloudCallout">
            <a:avLst>
              <a:gd name="adj1" fmla="val -77847"/>
              <a:gd name="adj2" fmla="val 45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find some medicine and I will try to heal cancer.This is my d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755640" y="260280"/>
            <a:ext cx="3527280" cy="2349720"/>
          </a:xfrm>
          <a:prstGeom prst="cloudCallout">
            <a:avLst>
              <a:gd name="adj1" fmla="val 33212"/>
              <a:gd name="adj2" fmla="val 91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find guilty people and send them to court because we should all live in a secur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etective"/>
          <p:cNvPicPr/>
          <p:nvPr/>
        </p:nvPicPr>
        <p:blipFill>
          <a:blip r:embed="rId1"/>
          <a:stretch/>
        </p:blipFill>
        <p:spPr>
          <a:xfrm>
            <a:off x="3924360" y="3284640"/>
            <a:ext cx="2722680" cy="292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three_en_0"/>
          <p:cNvPicPr/>
          <p:nvPr/>
        </p:nvPicPr>
        <p:blipFill>
          <a:blip r:embed="rId1"/>
          <a:stretch/>
        </p:blipFill>
        <p:spPr>
          <a:xfrm>
            <a:off x="2340000" y="2830680"/>
            <a:ext cx="4233960" cy="3528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1042920" y="333360"/>
            <a:ext cx="3529080" cy="2448000"/>
          </a:xfrm>
          <a:prstGeom prst="cloudCallout">
            <a:avLst>
              <a:gd name="adj1" fmla="val 21523"/>
              <a:gd name="adj2" fmla="val 7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y dream is to build a bridge in our village because a lot of children cross the river by rowing bo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entury Gothic"/>
              </a:rPr>
              <a:t>In Order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xpressing purpose ( amaç bildiren cümleleri bağlamak için kullanılı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.x:  Lilly is going to wear a dress </a:t>
            </a:r>
            <a:r>
              <a:rPr b="0" lang="tr-TR" sz="2800" spc="-1" strike="noStrike">
                <a:solidFill>
                  <a:srgbClr val="ff0000"/>
                </a:solidFill>
                <a:latin typeface="Century Gothic"/>
              </a:rPr>
              <a:t>in order to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tr-TR" sz="2800" spc="-1" strike="noStrike">
                <a:solidFill>
                  <a:srgbClr val="009900"/>
                </a:solidFill>
                <a:latin typeface="Century Gothic"/>
              </a:rPr>
              <a:t>look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beautifu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She should learn maths </a:t>
            </a:r>
            <a:r>
              <a:rPr b="0" lang="tr-TR" sz="3200" spc="-1" strike="noStrike">
                <a:solidFill>
                  <a:srgbClr val="ff0000"/>
                </a:solidFill>
                <a:latin typeface="Century Gothic"/>
              </a:rPr>
              <a:t>in order to</a:t>
            </a: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tr-TR" sz="3200" spc="-1" strike="noStrike">
                <a:solidFill>
                  <a:srgbClr val="009900"/>
                </a:solidFill>
                <a:latin typeface="Century Gothic"/>
              </a:rPr>
              <a:t>be</a:t>
            </a: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 more successfu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smart_0"/>
          <p:cNvPicPr/>
          <p:nvPr/>
        </p:nvPicPr>
        <p:blipFill>
          <a:blip r:embed="rId1"/>
          <a:stretch/>
        </p:blipFill>
        <p:spPr>
          <a:xfrm>
            <a:off x="2050920" y="2276640"/>
            <a:ext cx="3457800" cy="3744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teacher__0"/>
          <p:cNvPicPr/>
          <p:nvPr/>
        </p:nvPicPr>
        <p:blipFill>
          <a:blip r:embed="rId1"/>
          <a:stretch/>
        </p:blipFill>
        <p:spPr>
          <a:xfrm>
            <a:off x="2987640" y="2852640"/>
            <a:ext cx="2330640" cy="29131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4932360" y="1052640"/>
            <a:ext cx="2879640" cy="1584360"/>
          </a:xfrm>
          <a:prstGeom prst="wedgeEllipseCallout">
            <a:avLst>
              <a:gd name="adj1" fmla="val -67199"/>
              <a:gd name="adj2" fmla="val 6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u should use a dictionary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in order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Arial"/>
              </a:rPr>
              <a:t>look up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the new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resimler\kirmizi-guel-gifleri-resmi[1]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4 Dikdörtgen" descr=""/>
          <p:cNvPicPr/>
          <p:nvPr/>
        </p:nvPicPr>
        <p:blipFill>
          <a:blip r:embed="rId3"/>
          <a:stretch/>
        </p:blipFill>
        <p:spPr>
          <a:xfrm>
            <a:off x="2243160" y="2743200"/>
            <a:ext cx="4651200" cy="1987560"/>
          </a:xfrm>
          <a:prstGeom prst="rect">
            <a:avLst/>
          </a:prstGeom>
          <a:ln w="0">
            <a:noFill/>
          </a:ln>
        </p:spPr>
      </p:pic>
    </p:spTree>
  </p:cSld>
  <p:transition advTm="6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D:\resimler\DSCF0166.JPG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4 Dikdörtgen" descr=""/>
          <p:cNvPicPr/>
          <p:nvPr/>
        </p:nvPicPr>
        <p:blipFill>
          <a:blip r:embed="rId3"/>
          <a:stretch/>
        </p:blipFill>
        <p:spPr>
          <a:xfrm>
            <a:off x="1255680" y="2766960"/>
            <a:ext cx="6626160" cy="1976400"/>
          </a:xfrm>
          <a:prstGeom prst="rect">
            <a:avLst/>
          </a:prstGeom>
          <a:ln w="0">
            <a:noFill/>
          </a:ln>
        </p:spPr>
      </p:pic>
    </p:spTree>
  </p:cSld>
  <p:transition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836640"/>
            <a:ext cx="70851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Sultan Çelik</a:t>
            </a:r>
            <a:br>
              <a:rPr sz="3600"/>
            </a:b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UNIT 1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6920" y="2997360"/>
            <a:ext cx="525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PERSONAL GOA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Knowing What You Wa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Expressing Personal Goal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Your skills and your interests are very important for your succes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What do you want to be in the futur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entury Gothic"/>
              </a:rPr>
              <a:t>Key Vocabulary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Ambi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Accomplish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entury Gothic"/>
              </a:rPr>
              <a:t>Want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440" y="1557000"/>
            <a:ext cx="65325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xpressing personal gaols.( Kişisel hedefleri ifade ederken kullanırız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.x She </a:t>
            </a:r>
            <a:r>
              <a:rPr b="0" lang="tr-TR" sz="2800" spc="-1" strike="noStrike">
                <a:solidFill>
                  <a:srgbClr val="ff0000"/>
                </a:solidFill>
                <a:latin typeface="Century Gothic"/>
              </a:rPr>
              <a:t>wants to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be a nurs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060-080_0"/>
          <p:cNvPicPr/>
          <p:nvPr/>
        </p:nvPicPr>
        <p:blipFill>
          <a:blip r:embed="rId1"/>
          <a:stretch/>
        </p:blipFill>
        <p:spPr>
          <a:xfrm>
            <a:off x="2700360" y="2060640"/>
            <a:ext cx="3186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971640" y="836640"/>
            <a:ext cx="2355840" cy="1546200"/>
          </a:xfrm>
          <a:prstGeom prst="cloudCallout">
            <a:avLst>
              <a:gd name="adj1" fmla="val 96564"/>
              <a:gd name="adj2" fmla="val 390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be a great d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511-070_0"/>
          <p:cNvPicPr/>
          <p:nvPr/>
        </p:nvPicPr>
        <p:blipFill>
          <a:blip r:embed="rId1"/>
          <a:stretch/>
        </p:blipFill>
        <p:spPr>
          <a:xfrm>
            <a:off x="1187280" y="2997360"/>
            <a:ext cx="2880000" cy="3311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4859280" y="1484280"/>
            <a:ext cx="2160720" cy="1546200"/>
          </a:xfrm>
          <a:prstGeom prst="cloudCallout">
            <a:avLst>
              <a:gd name="adj1" fmla="val -82990"/>
              <a:gd name="adj2" fmla="val 44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be a police offi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0511-090_0"/>
          <p:cNvPicPr/>
          <p:nvPr/>
        </p:nvPicPr>
        <p:blipFill>
          <a:blip r:embed="rId1"/>
          <a:stretch/>
        </p:blipFill>
        <p:spPr>
          <a:xfrm>
            <a:off x="1908000" y="2781360"/>
            <a:ext cx="444528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716360" y="1052640"/>
            <a:ext cx="2448000" cy="1906560"/>
          </a:xfrm>
          <a:prstGeom prst="cloudCallout">
            <a:avLst>
              <a:gd name="adj1" fmla="val -58300"/>
              <a:gd name="adj2" fmla="val 94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y greatest ambition is to be a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511-070_0"/>
          <p:cNvPicPr/>
          <p:nvPr/>
        </p:nvPicPr>
        <p:blipFill>
          <a:blip r:embed="rId1"/>
          <a:stretch/>
        </p:blipFill>
        <p:spPr>
          <a:xfrm>
            <a:off x="2340000" y="3068640"/>
            <a:ext cx="3863880" cy="324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5796000" y="836640"/>
            <a:ext cx="2232000" cy="1657440"/>
          </a:xfrm>
          <a:prstGeom prst="cloudCallout">
            <a:avLst>
              <a:gd name="adj1" fmla="val -40467"/>
              <a:gd name="adj2" fmla="val 9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ecause 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run my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84360" y="765000"/>
            <a:ext cx="1993680" cy="1546560"/>
          </a:xfrm>
          <a:prstGeom prst="cloudCallout">
            <a:avLst>
              <a:gd name="adj1" fmla="val 29615"/>
              <a:gd name="adj2" fmla="val 90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hy do you want to take the cre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ank-bmp_0"/>
          <p:cNvPicPr/>
          <p:nvPr/>
        </p:nvPicPr>
        <p:blipFill>
          <a:blip r:embed="rId2"/>
          <a:stretch/>
        </p:blipFill>
        <p:spPr>
          <a:xfrm>
            <a:off x="2843280" y="549360"/>
            <a:ext cx="2736720" cy="180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7:02Z</dcterms:created>
  <dc:creator>Home</dc:creator>
  <dc:description/>
  <cp:keywords/>
  <dc:language>en-US</dc:language>
  <cp:lastModifiedBy>PROMEGA</cp:lastModifiedBy>
  <dcterms:modified xsi:type="dcterms:W3CDTF">2012-03-30T08:08:26Z</dcterms:modified>
  <cp:revision>38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55</vt:lpwstr>
  </property>
</Properties>
</file>